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AA7-647A-4D9E-9583-606C7003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196-62D5-4565-8919-43C55F21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198-0D68-4CDE-A31D-C5ABC2E4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514-1866-4903-B569-DA516F75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FC9-67A5-4E53-A351-093C4402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299-14B9-487B-8538-E7475F35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127-8462-4EBF-A2BE-6A3C50FB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9DA-C23D-46ED-BEA1-5B740E39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38C-B1C1-45D6-9E1B-CEEB7AAC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F91-EA9C-4DD5-9240-86DC82D9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7E2-C082-4CCA-B22E-EEECAB53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4D7-7895-46EC-847D-482616A7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2CE9-E8E8-4439-AF45-2A8DD7483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he Epic of Gilgamesh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(Ca. 2500-1500 B.C.E.)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sopotamian text of unmatched antiqu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cedes Hebrew script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ngthy textual ev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s once tremendously popula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nishes during infancy of Hebrew civiliz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916520" y="1600200"/>
            <a:ext cx="350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ilgamesh and Enkid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572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dventure:  Gilgamesh’s harsh rejection of Ishtar causes her to send the Bull of Heaven against people of Uru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truction of Bull brings about slow death of Enkid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48320" y="1828800"/>
            <a:ext cx="359568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ilgamesh’s Search for Immortalit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ilgamesh attempts to learn secret of immortal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es to accept his mortal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olation is the endurance of his worldly accomplishm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50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c as Gen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ng narrative poem that treats a serious, grand, or heroic subjec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mal elevated sty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olves around heroic or semi-divine fig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ounts events of national, cultural, or tribal consequenc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c as Gen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ditional Epics imitated in Literary Epics (e.g.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Paradise Lo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istotle ranked epic second in grandeur only to traged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 hero as figure of great national or perhaps cosmic signific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tting grand in sca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on involves superhuman ele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c as Gen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vine creatures take interest in human activ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remonial sty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ludes machine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merous conventions of epi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 simile:  formal and sustained similes in which vehicle (secondary subject) is developed extensively beyond its close parallel to the tenor (primary subject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c conven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 argument, theme, or ques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vocation of mu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gin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n media r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in the middle of thing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talogues and genealogi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comes influential in development of modern no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8: Epic proclamation:  to “proclaim to the world the deeds of Gilgamesh”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so author of his own sto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ds gave him great wisdom, courage, and physical strengt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:  2/3 god and 1/3 m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 city of Uru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:  father of the g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htar:  goddess of lov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:  claims city is still there to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lgamesh arrogant and abusive rul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uru—goddess of creation—creates Enkid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kidu innocent of human worl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 wild animal, part hu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0:  Trapper’s report of Enkid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kidu helps wild game escap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rlot to teach Enkidu “your woman’s art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kidu spends six days and seven nights with harlo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ld animals now run from Enkid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kidu made weak—”thoughts of man were in his heart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1:  Enkidu longs for comra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nts to go with harlot to Uruk to proclaim his greatn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lgamesh’s mother explains his dream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2:  Enkidu made to eat bread and drink w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omes a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kidu to change ord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riginally written down in Sumeri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ts adapted and modifi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dern text based on collection of 12 hardened clay tablets written in Semetic language of Akkadi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2 tablet (“Gilgmesh and the Underworld”) usually treated as appendi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86400" y="2271600"/>
            <a:ext cx="365760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2:  Gilgamesh and Enkidu figh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3:  Enkidu and Gilgamesh become frien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lgamesh to go to forest to destroy evil and make name for himself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bab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4:  Gilgamesh on the despair of city 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ming of Gilgamesh and Enkid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4:  Gilgamesh determined to leave behind great na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5:  Counselors or Uruk discourage Gilgamesh from going to for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mash gave Gilgamesh a restless hear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6:  Counselors tell Gilgamesh to let Enkidu lead the w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lgamesh rallies Enkid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7:  Humbaba awakened by Gilgamesh cutting down ced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8:  Enkidu wants to go back to c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lgamesh must rally Enkidu agai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9:  Humbaba emerges at 1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ut of ced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kidu claims Humbaba must di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lgamesh and Enkidu attack Humbab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0:  Mountains and hills moved when guardian of forest down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htar asks Gilgamesh to be her bridegroo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lgamesh won’t marry Isht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aims she doesn’t love anyone very lo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ounts tales of Ishtar’s many lov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1:  Ishtar’s 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1:  Ishtar to let loose Bull of Heave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ll let loose on people of Uru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2:  Gilgamesh and Enkidu kill Bul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kidu now to di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3:  Enkidu curses harlo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4:  Gilgamesh realizes end of life is sorro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kidu’s lengthy sickn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kidu claims he will die a shameful death—not in batt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5:  Everyone is now mourning Enkid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kidu d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6:  Gilgamesh to mourn Enkid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lgamesh now wanders over wildern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go see man who survived flood—Utnapishtim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7:  Gilgamesh’s lengthy mourning of Enkid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7:  Gilgamesh now in search of eternal 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nts to talk with Utnapishti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lgamesh enters mountain of Mash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rkn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8:  Gilgamesh to break through gate of Sidur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lgamesh doesn’t want to experience deat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8:  Siduri encourages Gilgamesh to be happ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0:  Gilgamesh must bring poles to travel through waters of deat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n’t let hands touch the wat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lgamesh explains despair to Utnapishtim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lgamesh now afraid of deat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1:  Utnapishtim has entered assembly of g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1:  Utnapishtim explains that nothing is perman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tnapishtim appears norm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me when world population increased and people became wil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ds agreed to exterminate humanki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2:  Utnapishtim builds boat—fills it ful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nd smashed—even gods terrified by flo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3:  All mankind turned to cl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ts loose dove on 7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4:  Utnapishtim made immortal as lone survivor of flo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5:  Gilgamesh given clothes that won’t age until he gets ho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tnapishtim’s secret to Gilgamesh re: rose pla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at influence on Hebrew, Greek, and Roman mytholog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rong influence on Bible—Old Testament specificall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ble adopts/adapts Flood story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225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5:  Gilgamesh takes pla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rpent then takes rose—Gilgamesh weep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6:  Men, like moon, wax and wa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ingship, not immortality, was Gilgamesh’s desti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lgamesh d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7:  Gilgamesh’s great prai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Ancient Middle Ea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668600"/>
            <a:ext cx="9144000" cy="518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Ancient Middle Ea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1555920"/>
            <a:ext cx="746748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ertile Crescent of Mesopotami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5791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storical Gilgamesh ruled in ancient Mesopotamian city of Uruk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ginning in roughly 2700 B.C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at story of friendship between Gilgamesh and Enkidu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ilgamesh divinely endowed with great strength, courage, and beau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re god than 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rtal fat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70680" y="2376360"/>
            <a:ext cx="307332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Epic of Gilgame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ilgamesh initially appears as bad rul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ople of Uruk compla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ds’ respond by creating Enkidu as counter to Gilgames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kidu as godlike mixture of human and wild ani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imal initially domina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kidu Raised by wild bea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reaks hunters’ trap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ilgamesh and Enkid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ilgamesh and Enkidu initially want to destroy each ot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omes tale of great friendship, true companionship, and hero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dventure:  Gilgamesh’s desires to slay great giant of the Cedar Forest—Humbab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8:30:38Z</dcterms:created>
  <dc:creator>Michael.Kramp</dc:creator>
  <dc:description/>
  <dc:language>en-US</dc:language>
  <cp:lastModifiedBy>Barbara Vogt</cp:lastModifiedBy>
  <dcterms:modified xsi:type="dcterms:W3CDTF">2009-08-24T23:52:44Z</dcterms:modified>
  <cp:revision>12</cp:revision>
  <dc:subject/>
  <dc:title>Slide 1</dc:title>
</cp:coreProperties>
</file>